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564-F2A6-4018-B0BA-A5D36AA1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B22-1252-4744-BFC1-BBEEB2D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8B4-820C-4F6C-AE7E-B0F427CE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148-4028-4EF7-8306-880B49C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1ED-0157-46C3-ADB9-60788DC7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AF1-D40C-4E7F-B934-7AEAC6F5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BD3-30FF-4854-AFBB-6C13C37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5D9-422F-457D-876F-83DC24E7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7F8-82BE-44D9-AF00-5A34E9B1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601-8580-49C4-96CD-0ED0CF4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D26-E5B0-4313-B6C9-00DFF205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AAC-6BF7-45BA-8B6B-5D8C6E7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B59B-15B7-464E-838E-8CADB9F2E1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to aud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084320" cy="1434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3888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Not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The HCW must be observed to perform HH as they approach the pati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If HH is not observed it should be recorded as a “missed” action (i.e. HH not performe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97632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362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HCW walks in and touches the patient on the shoulder without being observed to perform hand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1 – before touching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H action mi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Note</a:t>
            </a:r>
            <a:r>
              <a:rPr b="0" lang="en-AU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85c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  <a:ea typeface="Times New Roman"/>
              </a:rPr>
              <a:t>No “before” Moment can be recorded if auditing commences after a HCW is already touching a patient, or in the process of performing a proced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85c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  <a:ea typeface="Times New Roman"/>
              </a:rPr>
              <a:t>No “after” Moment can be recorded unless the Moment is observed.</a:t>
            </a: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Observation commences whilst HCW is emptying IDC drainage bag.  The HCW then leaves the room to dispose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Moment can be recorded as the start of the procedure and the end of the procedure/body fluid exposure risk have not been ob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Not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tient bed curtains are outside the patient zone and are frequently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Touching the curtains is considered to be leaving the patient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H should be performed between touching the curtains and touching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HCW walks into patient room opens the curtains up, then walk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Moment - as the curtain is outside the patient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onus”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The 5 Moments audit tool rewards staff who clean their hands at the most important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1. Moving betwee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99cc00"/>
                </a:solidFill>
                <a:latin typeface="Arial"/>
              </a:rPr>
              <a:t>One HH is recorded as two Moments – M4 and 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2. Moving from touching a patient to doing 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99cc00"/>
                </a:solidFill>
                <a:latin typeface="Arial"/>
              </a:rPr>
              <a:t>One HH is recorded as two Moments – M4 and M2 and vice versa M3 and 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4000" cy="653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620640"/>
            <a:ext cx="49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Bonus”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386760" cy="6238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24000" y="549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Bonus”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AuditSheet_5M_Name_Ward_Other(Top Half)"/>
          <p:cNvPicPr/>
          <p:nvPr/>
        </p:nvPicPr>
        <p:blipFill>
          <a:blip r:embed="rId1"/>
          <a:stretch/>
        </p:blipFill>
        <p:spPr>
          <a:xfrm>
            <a:off x="1500120" y="404640"/>
            <a:ext cx="6143760" cy="5904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788000" y="1700280"/>
            <a:ext cx="2736720" cy="95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 Black"/>
              </a:rPr>
              <a:t>Fill in all demographics at beginning of each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234200">
            <a:off x="3708360" y="1700280"/>
            <a:ext cx="1163520" cy="380880"/>
          </a:xfrm>
          <a:prstGeom prst="leftArrow">
            <a:avLst>
              <a:gd name="adj1" fmla="val 50000"/>
              <a:gd name="adj2" fmla="val 763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 rot="507600">
            <a:off x="2927160" y="2410920"/>
            <a:ext cx="2232000" cy="417600"/>
          </a:xfrm>
          <a:prstGeom prst="leftArrow">
            <a:avLst>
              <a:gd name="adj1" fmla="val 50000"/>
              <a:gd name="adj2" fmla="val 1336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66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ly record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oment 1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ce the HCW touches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688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63640" y="476280"/>
            <a:ext cx="68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Recording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048040" cy="39718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9"/>
          <p:cNvSpPr/>
          <p:nvPr/>
        </p:nvSpPr>
        <p:spPr>
          <a:xfrm>
            <a:off x="1403280" y="249228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1402920" y="328464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1402920" y="364500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1258920" y="378936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1476360" y="4581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1763640" y="4365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476360" y="4941720"/>
            <a:ext cx="64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628640"/>
            <a:ext cx="35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doesn’t matter what you use to mark your moments but it must be clearly legible for the data entry person and to allow for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Recording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52600" y="1876320"/>
            <a:ext cx="2047680" cy="3971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0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efore touching a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efore a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fter a procedure or body fluid exposur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fter touching a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fter touching a patient’s surrou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38480" y="342900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038480" y="3429000"/>
            <a:ext cx="47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AuditSheet_N_M1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76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6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Recording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09720" y="1895400"/>
            <a:ext cx="3133800" cy="3934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d ABH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72000" y="350532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rrect washing with soap an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0" y="4572000"/>
            <a:ext cx="426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 hand hygien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AuditSheet_N_M1_R"/>
          <p:cNvPicPr/>
          <p:nvPr/>
        </p:nvPicPr>
        <p:blipFill>
          <a:blip r:embed="rId1"/>
          <a:stretch/>
        </p:blipFill>
        <p:spPr>
          <a:xfrm>
            <a:off x="1042920" y="549360"/>
            <a:ext cx="7058160" cy="575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Recording Mo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209600" y="1895400"/>
            <a:ext cx="2533680" cy="3934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08360" y="160020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ditor observed HCW put gloves   (Moments 1 and 2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09880" y="358128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ditor observe HCW remove glove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Moments 3,4 o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8098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ditor observed HCW continually use same gloves for different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Glo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lude in your education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ord all moments observed with glove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ducate HH before and after all glov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loves can only go on in a before Moment (circles with cir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loves can only come off in after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boxes with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16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AuditSheet_N_M1_R_GlovesOn"/>
          <p:cNvPicPr/>
          <p:nvPr/>
        </p:nvPicPr>
        <p:blipFill>
          <a:blip r:embed="rId1"/>
          <a:stretch/>
        </p:blipFill>
        <p:spPr>
          <a:xfrm>
            <a:off x="1258920" y="692280"/>
            <a:ext cx="6769080" cy="5761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AuditSheet_Multiple"/>
          <p:cNvPicPr/>
          <p:nvPr/>
        </p:nvPicPr>
        <p:blipFill>
          <a:blip r:embed="rId1"/>
          <a:stretch/>
        </p:blipFill>
        <p:spPr>
          <a:xfrm>
            <a:off x="1258920" y="476280"/>
            <a:ext cx="6626160" cy="583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uditSheet_5M"/>
          <p:cNvPicPr/>
          <p:nvPr/>
        </p:nvPicPr>
        <p:blipFill>
          <a:blip r:embed="rId1"/>
          <a:stretch/>
        </p:blipFill>
        <p:spPr>
          <a:xfrm>
            <a:off x="1763640" y="260280"/>
            <a:ext cx="5688000" cy="626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oment 2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recorde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prior to any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- Once Hand Hygiene has been performed, nothing else in the patient’s environment can be touched prior to the procedure st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97632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HH Comp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pliance = appropriate hand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tal moments observed=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tual moments performed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X/Y x 100= %  rate of HH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n compliance= is failure to apply appropriate hand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Common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mographics not filled out or in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ultiple wards on one audi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total moments match on both audit sheet and what you have 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your Audit Summary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learly mark each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ep smi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85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d85c5"/>
                </a:solidFill>
                <a:latin typeface="Arial"/>
              </a:rPr>
              <a:t>N walks in, picks up drain bottle to view it, puts it down,  writes on the medical chart, washes hands, then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4000" y="2997360"/>
            <a:ext cx="849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– prior to touching the drain (pat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3 – after drain (body fluid exposure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4 – after chart (continuum of patient 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Quiz16.JPG"/>
          <p:cNvPicPr/>
          <p:nvPr/>
        </p:nvPicPr>
        <p:blipFill>
          <a:blip r:embed="rId1"/>
          <a:stretch/>
        </p:blipFill>
        <p:spPr>
          <a:xfrm>
            <a:off x="179280" y="4365720"/>
            <a:ext cx="8964720" cy="111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85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d85c5"/>
                </a:solidFill>
                <a:latin typeface="Arial"/>
              </a:rPr>
              <a:t>N uses ABHR, puts on gloves, checks blood glucose level of patient, removes gloves, uses ABHR &amp;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68360" y="292428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2 – Immediately prior to pricking finger with lanc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3 – Immediately after disposing of  sample strip &amp; used lancet, prior to touching an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How to audit slide 43"/>
          <p:cNvPicPr/>
          <p:nvPr/>
        </p:nvPicPr>
        <p:blipFill>
          <a:blip r:embed="rId1"/>
          <a:stretch/>
        </p:blipFill>
        <p:spPr>
          <a:xfrm>
            <a:off x="25560" y="4797360"/>
            <a:ext cx="911844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R walks in and touches the patient on the shoulder without being observed to perform hand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79280" y="2781360"/>
            <a:ext cx="8523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– before touching th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H action mi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C:\Users\Kel Heard\Pictures\HHA Pictures\AuditExamples\47AuditSheetEg.jpg"/>
          <p:cNvPicPr/>
          <p:nvPr/>
        </p:nvPicPr>
        <p:blipFill>
          <a:blip r:embed="rId1"/>
          <a:stretch/>
        </p:blipFill>
        <p:spPr>
          <a:xfrm>
            <a:off x="34920" y="3789360"/>
            <a:ext cx="8999640" cy="1079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250920" y="5445000"/>
            <a:ext cx="8523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Note: No after moment observed – therefore not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95280" y="148428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6699"/>
                </a:solidFill>
                <a:latin typeface="Arial"/>
              </a:rPr>
              <a:t>Observation commences whilst N is emptying IDC drainage bag.  The N then leaves the room to dispose of the urine in pan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C:\Users\Kel Heard\Pictures\HHA Pictures\AuditExamples\48AuditSheetEg.jpg"/>
          <p:cNvPicPr/>
          <p:nvPr/>
        </p:nvPicPr>
        <p:blipFill>
          <a:blip r:embed="rId1"/>
          <a:stretch/>
        </p:blipFill>
        <p:spPr>
          <a:xfrm>
            <a:off x="73080" y="4581360"/>
            <a:ext cx="8999640" cy="1079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76280" y="2924280"/>
            <a:ext cx="8667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 Moment can be recorded as the start of the procedure and the end of the procedure/body fluid exposure risk have not been ob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 walks in, silences IV alarm that is connected to the patient, then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6836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– prior to touching the “pati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4 – after touching the “pati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How to audit slide 46"/>
          <p:cNvPicPr/>
          <p:nvPr/>
        </p:nvPicPr>
        <p:blipFill>
          <a:blip r:embed="rId1"/>
          <a:stretch/>
        </p:blipFill>
        <p:spPr>
          <a:xfrm>
            <a:off x="0" y="4221000"/>
            <a:ext cx="9118440" cy="1224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R walks in, shakes the patient’s hand, uses ABHR, picks up the chart to read it, uses ABHR, then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50920" y="29242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– prior to touching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4 – on leaving (after chart – after continuum of patient 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C:\Users\Kel Heard\Pictures\HHA Pictures\AuditExamples\53AuditSheetEg.jpg"/>
          <p:cNvPicPr/>
          <p:nvPr/>
        </p:nvPicPr>
        <p:blipFill>
          <a:blip r:embed="rId1"/>
          <a:stretch/>
        </p:blipFill>
        <p:spPr>
          <a:xfrm>
            <a:off x="0" y="4221000"/>
            <a:ext cx="8999640" cy="1122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179280" y="5589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Note: The hand hygiene action in the middle of the scenario was not required at that time &amp; therefore not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3399"/>
                </a:solidFill>
                <a:latin typeface="Arial"/>
              </a:rPr>
              <a:t>More Examples – Bonus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 uses ABHR, assists a patient back to bed, uses ABHR, then assists another patient to stand up, uses ABHR, then l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How to audit slide 54_Top"/>
          <p:cNvPicPr/>
          <p:nvPr/>
        </p:nvPicPr>
        <p:blipFill>
          <a:blip r:embed="rId1"/>
          <a:stretch/>
        </p:blipFill>
        <p:spPr>
          <a:xfrm>
            <a:off x="0" y="3573360"/>
            <a:ext cx="9118440" cy="129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How to audit slide 54_bottom"/>
          <p:cNvPicPr/>
          <p:nvPr/>
        </p:nvPicPr>
        <p:blipFill>
          <a:blip r:embed="rId2"/>
          <a:stretch/>
        </p:blipFill>
        <p:spPr>
          <a:xfrm>
            <a:off x="25560" y="4869000"/>
            <a:ext cx="91184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1042920" y="2205000"/>
            <a:ext cx="547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ment 1 – before touching first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ment 4 – after touching first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ment 1 – prior to touching secon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ment 4 – after touching secon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4859280" y="1052640"/>
            <a:ext cx="2233800" cy="617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8"/>
          <p:cNvSpPr/>
          <p:nvPr/>
        </p:nvSpPr>
        <p:spPr>
          <a:xfrm>
            <a:off x="900000" y="2492280"/>
            <a:ext cx="5262840" cy="779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 rot="21051000">
            <a:off x="3255840" y="3650760"/>
            <a:ext cx="4699080" cy="1028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816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3600" spc="-1" strike="noStrike">
                <a:solidFill>
                  <a:srgbClr val="003399"/>
                </a:solidFill>
                <a:latin typeface="Arial"/>
              </a:rPr>
              <a:t>More Examples – Bonus Moment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urse walks in, uses ABHR, helps the patient to adjust position in bed, uses ABHR, dons gloves, empties IDC, takes urinal to pan room, removes gloves, washes hands, then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HowToAuditLastSlide copy"/>
          <p:cNvPicPr/>
          <p:nvPr/>
        </p:nvPicPr>
        <p:blipFill>
          <a:blip r:embed="rId1"/>
          <a:stretch/>
        </p:blipFill>
        <p:spPr>
          <a:xfrm>
            <a:off x="19080" y="3284640"/>
            <a:ext cx="9124920" cy="2428920"/>
          </a:xfrm>
          <a:prstGeom prst="rect">
            <a:avLst/>
          </a:prstGeom>
          <a:ln w="0">
            <a:noFill/>
          </a:ln>
        </p:spPr>
      </p:pic>
      <p:sp>
        <p:nvSpPr>
          <p:cNvPr id="192" name="Oval 20"/>
          <p:cNvSpPr/>
          <p:nvPr/>
        </p:nvSpPr>
        <p:spPr>
          <a:xfrm>
            <a:off x="1692360" y="1916280"/>
            <a:ext cx="1800000" cy="455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5"/>
          <p:cNvSpPr/>
          <p:nvPr/>
        </p:nvSpPr>
        <p:spPr>
          <a:xfrm rot="21058800">
            <a:off x="3268800" y="3344400"/>
            <a:ext cx="4537080" cy="11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ment 3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recorded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fter a procedure or body fluid exposur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thing else should be touched prior to performing Hand 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uching the outside of a drain or drainage bag even when the circuit is not broken, is considered a body fluid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be recorded as a stand alone moment when there is a body fluid exposure risk but no patien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92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oment 4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is recorded after touching the pat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uching the patient surroundings after touching the patient is recorded as a single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men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after a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ment 3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here is touching of the patient surroundings, an additional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ment 4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s recorded on leaving the patient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20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Moment 5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is recorded when the HCW leaves the patient zone after touching the patient’s immediate surroundings and the patient has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 been tou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en multiple items in the patient surroundings are touched, only on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oment 5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is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0303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Not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ly for every “before” Moment there should be an “after” Moment recor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can either be followed by a Moment 4 or a Mo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2 is always followed by Mo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5 is a stand alone Moment as there is no patien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re are a few situations when two “afters” may be recorded sequentially, however, you will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never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have two “before” moments in a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92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HCW walks in, picks up drain bottle to view it, puts it down,  writes on the medical chart, the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1 – prior to touching the drain (pati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3 – after drain (body fluid exposure ri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4 – after chart (continuum of patient c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01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HCW checks blood glucose level of patient, &amp;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2 – Immediately prior to pricking finger with lan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3 – Immediately after disposing of  sample strip &amp; used lancet, prior to touching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0:09:39Z</dcterms:created>
  <dc:creator>Auckland District Health Board</dc:creator>
  <dc:description/>
  <dc:language>en-US</dc:language>
  <cp:lastModifiedBy>Christine Sieczkowski</cp:lastModifiedBy>
  <dcterms:modified xsi:type="dcterms:W3CDTF">2012-08-24T02:22:15Z</dcterms:modified>
  <cp:revision>2</cp:revision>
  <dc:subject/>
  <dc:title>How to audit?</dc:title>
</cp:coreProperties>
</file>