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Viv McEnnis" initials="V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<Relationship Id="rId14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2-03-14T14:00:37.912000000" idx="1">
    <p:pos x="5107" y="3302"/>
    <p:text>plementation giui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5603-DD54-44A2-B132-3B073B38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172-B2F2-45E8-9170-874E8074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378-574F-4030-8FC3-5378EF1A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D6A7-AE9D-46F1-B72E-245203CC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B48-8FBF-4353-A38D-6802F6F3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ACB-F7DC-4AD8-8197-DFF95361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558-2F65-4D6A-A027-6C7A378E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40ED-9477-4423-B1D4-0F4A1728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F97-FBED-4789-B392-79A4683C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DEC9-6183-4684-8984-A8C6D015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162-9E26-4DCA-B264-5E19FFAC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0A6-2437-49C2-83BC-BC754212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6916-99E5-41EE-A344-C16F96B9D219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andhygiene.org.nz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3141720"/>
            <a:ext cx="4824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637000"/>
            <a:ext cx="81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66ff"/>
                </a:solidFill>
                <a:latin typeface="Arial"/>
              </a:rPr>
              <a:t>Where to from 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19640" y="4797360"/>
            <a:ext cx="345600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0843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66ff"/>
                </a:solidFill>
                <a:latin typeface="Calibri"/>
              </a:rPr>
              <a:t>   </a:t>
            </a:r>
            <a:r>
              <a:rPr b="0" lang="en-NZ" sz="4000" spc="-1" strike="noStrike">
                <a:solidFill>
                  <a:srgbClr val="0066ff"/>
                </a:solidFill>
                <a:latin typeface="Arial"/>
              </a:rPr>
              <a:t>This is the beginning not the end..........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You can’t get rid of us that easi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elp is always close at hand from your local Platinum Auditor for auditing ad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ork with your local HH coordinator for audit schedule and training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fer to HHNZ website for updates, resources, workshop pre reading, HHNZ guidelines et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0843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NZ" sz="4400" spc="-1" strike="noStrike">
                <a:solidFill>
                  <a:srgbClr val="0066ff"/>
                </a:solidFill>
                <a:latin typeface="Arial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inforce expectations following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ow to access HHNZ resourc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ighlight workshop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upport from H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10843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66ff"/>
                </a:solidFill>
                <a:latin typeface="Arial"/>
              </a:rPr>
              <a:t>Where to from here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ON’T PA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ll results are sent to everyone individu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latinum auditors will be in touch with you and your HH coord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orkshop participants who do not receive (the very high) 90% pass rate will receive follow up training and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ll participants will receive a certificate of attendance celebrating their success once they have pas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0843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Auditor r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You cannot teach others to audit but can teach the rules around the 5 moments using any of the HH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You are responsible for keeping in regular contact with the HHNZ website to keep up to date with current issues and to access resources etc </a:t>
            </a:r>
            <a:r>
              <a:rPr b="0" lang="en-NZ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handhygiene.org.nz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intaining your validation status as a Gold auditor on an annual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0843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6091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NZ" sz="3600" spc="-1" strike="noStrike">
                <a:solidFill>
                  <a:srgbClr val="0066ff"/>
                </a:solidFill>
                <a:latin typeface="Arial"/>
              </a:rPr>
              <a:t>Getting started - practice, practice, practice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ractice until you are comfortabl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5 mo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audit tool/Smartphone/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y auditing situation that may occur on the 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n progress to your speciality wards e.g.. ICU, dialysis, day onc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ave and submit data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0843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360" y="60912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66ff"/>
                </a:solidFill>
                <a:latin typeface="Arial"/>
              </a:rPr>
              <a:t>Why auditor re-valid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ll audi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ave potential for skills to fade and potentially jeopardise the validity of the hand hygiene complianc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eed to maintain education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keep abreast of any changes that may have occurred  to auditing processes or collection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rovides overall validity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0843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66ff"/>
                </a:solidFill>
                <a:latin typeface="Arial"/>
              </a:rPr>
              <a:t>Auditor validation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nual collection minimum 100 mo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nual completion of auditor online re-validation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You may not be able to submit data if you are not vali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nual face to face visit from Platinum Au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0843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NZ" sz="4400" spc="-1" strike="noStrike">
                <a:solidFill>
                  <a:srgbClr val="0066ff"/>
                </a:solidFill>
                <a:latin typeface="Arial"/>
              </a:rPr>
              <a:t>HH  programme in your DHB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84280"/>
            <a:ext cx="7772400" cy="28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member your DHB  may  have a different structure for their programme and this will be managed by the HH coordinator who may be another Gold audito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ind out what the structure is for your DH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0843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66ff"/>
                </a:solidFill>
                <a:latin typeface="Arial"/>
              </a:rPr>
              <a:t>HH Coordin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orks with the support of the DHB hand hygiene steering gro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ssumes the lead role in delivering the HH program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sponsible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ongoing sustainability of the HH  training program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number and mix of gold aud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btaining auditor login &amp; passwords to allow access to the HH complianc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ntering monthly stats on Staph aureus bacteraemia into HH web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nsuring the smart phones are available to collect audi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s the main point of contact for HH matters in the DHB and any communication with HH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0843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9:45:27Z</dcterms:created>
  <dc:creator>Viv McEnnis</dc:creator>
  <dc:description/>
  <dc:language>en-US</dc:language>
  <cp:lastModifiedBy>Christine Sieczkowski</cp:lastModifiedBy>
  <dcterms:modified xsi:type="dcterms:W3CDTF">2012-08-24T02:26:20Z</dcterms:modified>
  <cp:revision>9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