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Viv McEnnis" initials="V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<Relationship Id="rId14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2-03-14T14:00:37.912000000" idx="1">
    <p:pos x="5107" y="3302"/>
    <p:text>plementation giui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C536-184C-4D35-A100-4A5A5D51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E43F-C649-4A6B-913F-D55F9BBF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B6EF-09D7-41CB-A6D7-9A7CA707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6BAB-58C6-440A-A7CB-31D4A2E2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5AC8-BF2F-40A4-A31D-C759EC69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8A8B-9C06-424A-A5B2-6CE5E41B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E273-F31A-401B-B1C2-3ECAB79F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4DE0-6B8A-47CA-8D70-6165A9C6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4AAA-7112-40C1-B063-15F136E0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4771-945B-44D1-935E-C3FB4E27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4C08-56E3-4D27-BEBD-BF8FE854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ECEE-835B-4BF8-A737-30742B90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AA14-0F5B-411E-820E-CF9C16D69245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andhygiene.org.nz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3141720"/>
            <a:ext cx="4824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2637000"/>
            <a:ext cx="81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66ff"/>
                </a:solidFill>
                <a:latin typeface="Arial"/>
              </a:rPr>
              <a:t>Where to from 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19640" y="4797360"/>
            <a:ext cx="3456000" cy="1728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0843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66ff"/>
                </a:solidFill>
                <a:latin typeface="Calibri"/>
              </a:rPr>
              <a:t>   </a:t>
            </a:r>
            <a:r>
              <a:rPr b="0" lang="en-NZ" sz="4000" spc="-1" strike="noStrike">
                <a:solidFill>
                  <a:srgbClr val="0066ff"/>
                </a:solidFill>
                <a:latin typeface="Arial"/>
              </a:rPr>
              <a:t>This is the beginning not the end..........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You can’t get rid of us that easi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elp is always close at hand from your local Platinum Auditor for auditing ad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ork with your local HH coordinator for audit schedule and training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fer to HHNZ website for updates, resources, workshop pre reading, HHNZ guidelines et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0843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NZ" sz="4400" spc="-1" strike="noStrike">
                <a:solidFill>
                  <a:srgbClr val="0066ff"/>
                </a:solidFill>
                <a:latin typeface="Arial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inforce expectations following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ow to access HHNZ resourc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ighlight workshop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upport from H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10843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66ff"/>
                </a:solidFill>
                <a:latin typeface="Arial"/>
              </a:rPr>
              <a:t>Where to from here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ON’T PA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ll results are sent to everyone individu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latinum auditors will be in touch with you and your HH coordin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orkshop participants who do not receive (the very high) 90% pass rate will receive follow up training and 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ll participants will receive a certificate of attendance celebrating their success once they have pas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0843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Auditor r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You cannot teach others to audit but can teach the rules around the 5 moments using any of the HH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You are responsible for keeping in regular contact with the HHNZ website to keep up to date with current issues and to access resources etc </a:t>
            </a:r>
            <a:r>
              <a:rPr b="0" lang="en-NZ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handhygiene.org.nz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intaining your validation status as a Gold auditor on an annual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0843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6091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NZ" sz="3600" spc="-1" strike="noStrike">
                <a:solidFill>
                  <a:srgbClr val="0066ff"/>
                </a:solidFill>
                <a:latin typeface="Arial"/>
              </a:rPr>
              <a:t>Getting started - practice, practice, practice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ractice until you are comfortabl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5 mo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audit tool/Smartphone/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y auditing situation that may occur on the 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n progress to your speciality wards e.g.. ICU, dialysis, day onc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ave and submit data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0843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360" y="609120"/>
            <a:ext cx="719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66ff"/>
                </a:solidFill>
                <a:latin typeface="Arial"/>
              </a:rPr>
              <a:t>Why auditor re-valid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ll audit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ave potential for skills to fade and potentially jeopardise the validity of the hand hygiene complianc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need to maintain education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keep abreast of any changes that may have occurred  to auditing processes or collection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rovides overall validity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0843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66ff"/>
                </a:solidFill>
                <a:latin typeface="Arial"/>
              </a:rPr>
              <a:t>Auditor validation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nual collection minimum 100 mo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nual completion of auditor online re-validation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You may not be able to submit data if you are not vali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nual face to face visit from Platinum Au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0843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NZ" sz="4400" spc="-1" strike="noStrike">
                <a:solidFill>
                  <a:srgbClr val="0066ff"/>
                </a:solidFill>
                <a:latin typeface="Arial"/>
              </a:rPr>
              <a:t>HH  programme in your DHB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84280"/>
            <a:ext cx="7772400" cy="28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member your DHB  may  have a different structure for their programme and this will be managed by the HH coordinator who may be another Gold audito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ind out what the structure is for your DH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0843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66ff"/>
                </a:solidFill>
                <a:latin typeface="Arial"/>
              </a:rPr>
              <a:t>HH Coordin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orks with the support of the DHB hand hygiene steering gro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ssumes the lead role in delivering the HH program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esponsible f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ongoing sustainability of the HH  training program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number and mix of gold audi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obtaining auditor login &amp; passwords to allow access to the HH complianc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ntering monthly stats on Staph aureus bacteraemia into HH web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nsuring the smart phones are available to collect audi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s the main point of contact for HH matters in the DHB and any communication with HH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0843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9:45:27Z</dcterms:created>
  <dc:creator>Viv McEnnis</dc:creator>
  <dc:description/>
  <dc:language>en-US</dc:language>
  <cp:lastModifiedBy>Christine Sieczkowski</cp:lastModifiedBy>
  <dcterms:modified xsi:type="dcterms:W3CDTF">2012-08-24T02:26:20Z</dcterms:modified>
  <cp:revision>9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